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25B-5EB5-44AC-B93E-B327845A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1FF-8449-4019-9059-4815BAB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437-7986-4B2E-AB57-8D2A546E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1B1-4AEF-4575-AE05-C20F38FC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DFDF-94AE-4E62-93AF-4CC01C2E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688-D466-45FF-BA5E-A3531FAD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54A-8F44-4301-BDA1-3A89E88B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2E77-2581-4EB3-BB70-B9B9468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F016-B98F-4835-8548-04B4E42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54A-902B-45C6-9201-218B1EA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F96-4211-4947-A4C4-741C871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3B4-7537-4147-830D-0EAAD581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88B2-6C65-4DF1-A21B-D4E3451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6C54-38AB-4D75-A4EF-5C2006C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70DD-5921-4E10-A233-F0E4CA9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E1F6-B30A-46DC-8A25-C03985F4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5ED3-D828-47EB-AA89-6CDC0276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5AB-2221-4AD8-A702-85CE831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85D-D9C5-42F8-8FBF-DDBC9E9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5B1-79A2-4AB8-8FED-A4D7335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7CB-8CDA-4DB0-9C0D-8C78744E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111-5070-436B-8678-BA388BA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194-CFB8-4E2E-8BA7-7E3A78D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31B-BE97-4C7E-9C27-4ADF73A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7378-66A8-48C9-B6EF-B9540D0187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1E14-8489-461F-A217-CAB4F077C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pyright.gov/title17/" TargetMode="External"/><Relationship Id="rId2" Type="http://schemas.openxmlformats.org/officeDocument/2006/relationships/hyperlink" Target="http://codebook.jot.com/WikiHome" TargetMode="External"/><Relationship Id="rId3" Type="http://schemas.openxmlformats.org/officeDocument/2006/relationships/hyperlink" Target="http://fairuse.stanford.edu/" TargetMode="External"/><Relationship Id="rId4" Type="http://schemas.openxmlformats.org/officeDocument/2006/relationships/hyperlink" Target="http://creativecommons.org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10280" y="5029200"/>
            <a:ext cx="1447920" cy="1447920"/>
          </a:xfrm>
          <a:prstGeom prst="ellipse">
            <a:avLst/>
          </a:prstGeom>
          <a:noFill/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opyright law prim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the “digital”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5257800"/>
            <a:ext cx="434340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ryan roe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b4b"/>
                </a:solidFill>
                <a:latin typeface="Arial"/>
              </a:rPr>
              <a:t>october 16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05520"/>
            <a:ext cx="1524240" cy="144756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clusive rights of copyrigh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rep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of public disp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prepare derivative 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Li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ory Infrin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ingly con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ce, cause, or materially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carious Infrin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infri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financial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ny v. Univers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, 198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&amp;M v. Nap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9th Cir, 20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GM v. Grok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§107 F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1) the purpose and character of the us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2) the nature of the copyrighted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3) the amount …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4) … the potential mark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107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“criticism, comment, news reporting, teaching (including multiple copies for classroom use), scholarship, or research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ucation / libra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r use and the “staple article of commerce” def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ony v. Univers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&amp;M v. Nap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verse engin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ga v. Acco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P Safe Harb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§512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ory Commun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Locati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and take-dow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copyright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1978: Life of the author plus 70 years.  Works for hire are 95 or 1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med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s /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/ Attorne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minal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++: the dmc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Millennium Copyright Act (199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P Safe Harbors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§5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nti-circumven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1201-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mca anti-circumven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Contr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§1201(a)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Contro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§1201(b)(1)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mend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mca anti-circumven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v. ElcomSoft &amp; Skylarov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v. Reimer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DNY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ergence of “private” copyrigh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 little bit about the “basics” of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ways in which copyright law affects your academic discipli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Copyright term extension, complications with “new” medi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DMCA, open source softw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Fair use, university poli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current issues of interest in technology and traditional / new media impacted by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i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ering public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ath of fair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CA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 takedown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emporary issu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Thought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’s and collaborativ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ture of books and 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m production (and the Sisyphean ordeal of clearing righ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pyright Statute (Title 17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copyright.gov/title17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ica Litman, Digital Copy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va Vaidhyanathan, Copyrights and Copywrongs: The Rise of Intellectual Property and How It Threatens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Code and Other Laws of Cyber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Code "2.0" at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codebook.jot.com/Wiki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ik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Lessig, Free Culture: The Nature and Future of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ford Copyright &amp; Fair Use Cent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fairuse.stanford.edu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ovides a good set of copyright law link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e Common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://creativecommons.or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0988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057400"/>
            <a:ext cx="1143000" cy="1143000"/>
          </a:xfrm>
          <a:prstGeom prst="ellipse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486880"/>
            <a:ext cx="8001000" cy="201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Arial"/>
              </a:rPr>
              <a:t>Ryan Ro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28701" r="0" b="34429"/>
          <a:stretch/>
        </p:blipFill>
        <p:spPr>
          <a:xfrm>
            <a:off x="2362320" y="3581280"/>
            <a:ext cx="4647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2480"/>
            <a:ext cx="80769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nature has made any one thing less susceptible than all others of exclusive property, it is the action of the thinking power called an idea … He who receives an idea from me, receives instruction himself without lessening mine; as he who lights his taper at mine, receives light without darkening me. … Inventions then cannot, in nature, be a subject of proper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 introdu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ectual Property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llectual property refers to a collection of (often unrelated) legal doctrines that protect creative investments and lab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ically, the protection of everything that is not ”real” proper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llectual property introdu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Forms of Intellectual Prope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e Secr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emar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yrigh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Forms of Intellectual Prope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other legal doctrines denoted as “IP”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the right of publicity, Semiconductor Chip Protection Act of 1984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pyright law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752480"/>
            <a:ext cx="7162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 one thing is impossible for God: To find any sense in any copyright law on the plane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qualifica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o U.S.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kip the history of copyright, as well as many important doctrines, special cases, and exceptions within copyright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basics that 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ver will miss many nuances and largely skip the large body of copyright case la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ubject matter of copyrigh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ation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…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orks of authorship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any tangible medium of expression …" §102(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ity Requi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pendently created by the author, with a minimal degree of crea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s and research?: “… the creative is the enemy of the true.”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atthew Bender v. We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2nd Cir, 1998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 / Expression Dicho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o case does copyright protection for an original work of authorship extend to 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a, procedure, process, system, method of operation, concept, principle, or dis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§102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n” copyrigh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tected categories of work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s of Author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ary, musical, dramatic, pictorial, graphic, sculptural and architectural works; motion pictures; sound recordings; and other categories.  §102(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and source code of software programs.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pple v. Franklin Comp. Corp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3d Cir, 198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transformation, adaptation, or recasting of a copyrighted wor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ollection of copyrighted works (“collective work”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ction and arrangement of facts (“factual compilation”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2:13:47Z</dcterms:created>
  <dc:creator>Ryan Roemer</dc:creator>
  <dc:description/>
  <dc:language>en-US</dc:language>
  <cp:lastModifiedBy>rchin</cp:lastModifiedBy>
  <dcterms:modified xsi:type="dcterms:W3CDTF">2006-10-18T00:35:15Z</dcterms:modified>
  <cp:revision>94</cp:revision>
  <dc:subject/>
  <dc:title>intellectual property</dc:title>
</cp:coreProperties>
</file>